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FC4-A015-4B94-A4CE-4CE965C7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617-F45A-44E8-B53A-4BB0998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9A4-E020-4BC4-9A3C-DE685181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E55-2A7D-472E-9288-38FCFD8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606B-91E4-4EE5-B94A-CF60E8FA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421D-6172-4BA5-B9C6-5C86068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D2A-49B5-4DAE-83B0-A6270D67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E234-2E1D-48F2-BC1B-F3C41EE8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223B-D997-42DA-8D54-9FB157F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1C41-2F29-418E-9A12-F60EEAE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5C4-442B-4A5D-8333-02C7310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16F-9A7A-4FEE-BA13-7E797A3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48C7-E282-40F3-88B7-0507A7A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40A-B4BB-48B5-896C-517BF8A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43D7-E936-4A5E-9DF5-8E5FE4A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526-8BB7-40FB-919E-4CB65FA8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1A1-07F9-48D5-9680-741A4D40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4F15-DB2C-41D1-8B3E-878FD523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75EA-C87C-4A86-AF47-D4E9E9B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92B4-6ED4-4CDF-9DE5-52898152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9699-E25A-4DB0-878B-B7A8891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8609-CC9F-4CDB-A50C-DCD2085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E98-4531-4DCD-A8B1-E5A13285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F15B-0D05-4A27-8446-703AC10B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9449-BBF8-41AF-8ED1-2E70EE6D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F9D3-63BC-4339-9688-455599D0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B6B3-8945-45EE-A47D-50FCE22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4849-6D12-4A98-8F05-E30F8BCE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30D9-5875-4D18-BCA0-B05BEF40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B52C-8BB6-432E-A267-94B6F67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3F09-939E-47D0-8F15-6E8812BB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C813-53C0-4014-8A63-35EC5EFE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9007-C631-4827-B08A-A390B33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A27-D219-484C-BFAD-C0DBC06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D02F-CE8B-415F-9BF9-398C6232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26EB-8665-4EBB-8501-D0B36C98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B22F-DBED-472D-A14D-634351F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DBB5-9E8D-4BF5-83A2-862B33A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AD3E-00C1-424C-B23C-3C2D995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41D0-AC61-46D9-96BD-56D597AC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B0C5-45FB-4BAB-B6C6-82919DDC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DDFE-9421-48CB-A197-97FED4B5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3437-AE60-4F1E-874F-CD10D00A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C0B-114D-4701-98D6-191D18F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9C3-7D15-404A-B118-44D048E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C80-ADE7-4EAF-957B-E3EEF51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2AB-029F-44D5-AD5F-3480B17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27D-C901-4131-B5A5-1770FE4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F97B4-75EE-4945-AB2F-90F68A295B2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FF634-94FE-447F-AF22-663C85DD4B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34D82-4970-4D53-BCDC-C1CB3B4008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92BAE-CC6D-4B8D-ABB1-CADBF9F46D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hyperlink" Target="http://www.pccityempresas.es/" TargetMode="External"/><Relationship Id="rId4" Type="http://schemas.openxmlformats.org/officeDocument/2006/relationships/hyperlink" Target="http://www.pccityempresas.es/" TargetMode="External"/><Relationship Id="rId5" Type="http://schemas.openxmlformats.org/officeDocument/2006/relationships/hyperlink" Target="http://www.pccityempresas.es/" TargetMode="External"/><Relationship Id="rId6" Type="http://schemas.openxmlformats.org/officeDocument/2006/relationships/hyperlink" Target="http://www.pccityempresas.es/" TargetMode="External"/><Relationship Id="rId7" Type="http://schemas.openxmlformats.org/officeDocument/2006/relationships/hyperlink" Target="http://www.si2010.com/" TargetMode="External"/><Relationship Id="rId8" Type="http://schemas.openxmlformats.org/officeDocument/2006/relationships/hyperlink" Target="http://www.pccityempresas.es/" TargetMode="External"/><Relationship Id="rId9" Type="http://schemas.openxmlformats.org/officeDocument/2006/relationships/hyperlink" Target="http://www.antag.es/" TargetMode="External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ccityempresas.es/" TargetMode="External"/><Relationship Id="rId2" Type="http://schemas.openxmlformats.org/officeDocument/2006/relationships/hyperlink" Target="http://www.pixmania.com/" TargetMode="External"/><Relationship Id="rId3" Type="http://schemas.openxmlformats.org/officeDocument/2006/relationships/hyperlink" Target="http://www.pillalo.com/" TargetMode="External"/><Relationship Id="rId4" Type="http://schemas.openxmlformats.org/officeDocument/2006/relationships/hyperlink" Target="http://www.apple.com/es/imac" TargetMode="External"/><Relationship Id="rId5" Type="http://schemas.openxmlformats.org/officeDocument/2006/relationships/hyperlink" Target="http://www.si2010.com/" TargetMode="External"/><Relationship Id="rId6" Type="http://schemas.openxmlformats.org/officeDocument/2006/relationships/hyperlink" Target="http://www.pccityempresas.es/" TargetMode="External"/><Relationship Id="rId7" Type="http://schemas.openxmlformats.org/officeDocument/2006/relationships/hyperlink" Target="http://www.antag.es/" TargetMode="External"/><Relationship Id="rId8" Type="http://schemas.openxmlformats.org/officeDocument/2006/relationships/hyperlink" Target="http://www.pccityempresas.es/" TargetMode="External"/><Relationship Id="rId9" Type="http://schemas.openxmlformats.org/officeDocument/2006/relationships/hyperlink" Target="http://www.si2010.com/" TargetMode="External"/><Relationship Id="rId10" Type="http://schemas.openxmlformats.org/officeDocument/2006/relationships/hyperlink" Target="http://www.pccityempresas.es/" TargetMode="External"/><Relationship Id="rId11" Type="http://schemas.openxmlformats.org/officeDocument/2006/relationships/hyperlink" Target="http://www.antag.es/" TargetMode="External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hyperlink" Target="file:///ORDENADOR%20ADVENT%20AIO%20100%20ES3%20(ADV856581XP)%20en%20PCCITY.htm" TargetMode="External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xvisual.es/epages/62028366.sf/es_ES/?ObjectPath=/Shops/62028366/Products/%22PROYECTOR%20OPTOMA%20EX774%204300%20ANSI%2C%2010...%22" TargetMode="Externa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hyperlink" Target="file:///PROYECTOR%20OPTOMA%20EX774N%204.300%20ANSI,%20XGA%20-%20MaxVisual.ht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hyperlink" Target="file:///TELEVISI&#211;N%20LCD%20FULL%20HD%20LG%2047%20%2047LH3000%20en%20PCCITY%20EMPRESAS.htm" TargetMode="External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66"/>
                </a:solidFill>
                <a:latin typeface="Arial"/>
              </a:rPr>
              <a:t>PRESUPUESTO </a:t>
            </a:r>
            <a:br>
              <a:rPr sz="6000"/>
            </a:br>
            <a:r>
              <a:rPr b="1" lang="es-ES" sz="6000" spc="-1" strike="noStrike">
                <a:solidFill>
                  <a:srgbClr val="006666"/>
                </a:solidFill>
                <a:latin typeface="Arial"/>
              </a:rPr>
              <a:t>INFORMATICA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NAIS Y SORAY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37680"/>
            <a:ext cx="73152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SA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74960" y="1599840"/>
            <a:ext cx="4017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Seguro de fiabilidad y potencia para la protección de su ordenador , servidor o estación de trabajo..</a:t>
            </a:r>
            <a:br>
              <a:rPr sz="1900"/>
            </a:b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- SAIs IN-LINE 500, 750 o 1000 VA. 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- 3 o 4 tomas SAIs / pararrayos. 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- Protección Tel / Fax / Internet (RJ11). 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- Comunicación con el ordenador ( puerto RS232 ). 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- Software incluido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076640" cy="183492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8800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404640"/>
          <a:ext cx="8964720" cy="3024360"/>
        </p:xfrm>
        <a:graphic>
          <a:graphicData uri="http://schemas.openxmlformats.org/drawingml/2006/table">
            <a:tbl>
              <a:tblPr/>
              <a:tblGrid>
                <a:gridCol w="1395360"/>
                <a:gridCol w="793800"/>
                <a:gridCol w="770040"/>
                <a:gridCol w="1203480"/>
                <a:gridCol w="877680"/>
                <a:gridCol w="1103400"/>
                <a:gridCol w="839880"/>
                <a:gridCol w="1149120"/>
                <a:gridCol w="83196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id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c/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c/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Bene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NE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enador compl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,99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98,9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7,0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ara y Mic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y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9,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ww.maxvisual.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.139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1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talla T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9,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9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1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talla proy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6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ww.dara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.96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9280" y="3789360"/>
          <a:ext cx="8964720" cy="2419200"/>
        </p:xfrm>
        <a:graphic>
          <a:graphicData uri="http://schemas.openxmlformats.org/drawingml/2006/table">
            <a:tbl>
              <a:tblPr/>
              <a:tblGrid>
                <a:gridCol w="1441440"/>
                <a:gridCol w="719280"/>
                <a:gridCol w="792000"/>
                <a:gridCol w="1224000"/>
                <a:gridCol w="863640"/>
                <a:gridCol w="1081080"/>
                <a:gridCol w="863640"/>
                <a:gridCol w="1152720"/>
                <a:gridCol w="8269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OFICINA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enador compl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,9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.989,9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6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70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 duro Porta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www.si2010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Laser 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,9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a tinta 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www.antag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,1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4581360"/>
          <a:ext cx="9144000" cy="1717920"/>
        </p:xfrm>
        <a:graphic>
          <a:graphicData uri="http://schemas.openxmlformats.org/drawingml/2006/table">
            <a:tbl>
              <a:tblPr/>
              <a:tblGrid>
                <a:gridCol w="1403280"/>
                <a:gridCol w="901800"/>
                <a:gridCol w="755640"/>
                <a:gridCol w="1297080"/>
                <a:gridCol w="1077840"/>
                <a:gridCol w="806400"/>
                <a:gridCol w="847800"/>
                <a:gridCol w="1038240"/>
                <a:gridCol w="10159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ESPA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nador Compl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8,9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196,9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78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1,0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nador Porta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www.pixmania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.6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0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,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www.pillalo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55,9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5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9,0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.824,62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6.895,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.070,38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0" y="2708280"/>
          <a:ext cx="9144000" cy="1630440"/>
        </p:xfrm>
        <a:graphic>
          <a:graphicData uri="http://schemas.openxmlformats.org/drawingml/2006/table">
            <a:tbl>
              <a:tblPr/>
              <a:tblGrid>
                <a:gridCol w="1424160"/>
                <a:gridCol w="915840"/>
                <a:gridCol w="719280"/>
                <a:gridCol w="1296720"/>
                <a:gridCol w="1079640"/>
                <a:gridCol w="792000"/>
                <a:gridCol w="865440"/>
                <a:gridCol w="1079280"/>
                <a:gridCol w="97164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OFICINA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enador mac Para Dise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apple.com/es/i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.79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0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0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2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 duro Porta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si2010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Laser 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,9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a tinta 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www.antag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,1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0"/>
          <a:ext cx="9144000" cy="2492280"/>
        </p:xfrm>
        <a:graphic>
          <a:graphicData uri="http://schemas.openxmlformats.org/drawingml/2006/table">
            <a:tbl>
              <a:tblPr/>
              <a:tblGrid>
                <a:gridCol w="1424160"/>
                <a:gridCol w="915840"/>
                <a:gridCol w="719280"/>
                <a:gridCol w="1296720"/>
                <a:gridCol w="1079640"/>
                <a:gridCol w="828720"/>
                <a:gridCol w="828720"/>
                <a:gridCol w="1203120"/>
                <a:gridCol w="84780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OFICINA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cio/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ecio/un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Bene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 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NE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denador compl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,9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.989,9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6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70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 duro Porta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www.si2010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Laser 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www.pccityempresas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8,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,9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ora a tinta 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www.antag.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6,8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,1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ESUPUESTO 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OTAL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3068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28526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Verdana"/>
              </a:rPr>
              <a:t>32.824,62 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66"/>
                </a:solidFill>
                <a:latin typeface="Arial"/>
              </a:rPr>
              <a:t>INDICE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Ordenador comple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Proyecto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Pantalla de T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Pantalla del proy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Disco Duro Portát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Impresora Láser A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7" action="ppaction://hlinksldjump"/>
              </a:rPr>
              <a:t>Impresora a tinta A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8" action="ppaction://hlinksldjump"/>
              </a:rPr>
              <a:t>SA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006666"/>
                </a:solidFill>
                <a:uFillTx/>
                <a:latin typeface="Verdana"/>
                <a:hlinkClick r:id="rId9" action="ppaction://hlinksldjump"/>
              </a:rPr>
              <a:t>Presupues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ORDENADOR COMPLE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94000" y="1827360"/>
            <a:ext cx="35910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Puert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USB x 5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Webcam 1.3      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megapíxeles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Lector de tarjetas de memoria 4-1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Audio-In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Audio-out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D-Sub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Power-In (DC)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LAN (RJ-45) </a:t>
            </a:r>
            <a:br>
              <a:rPr sz="1900"/>
            </a:br>
            <a:br>
              <a:rPr sz="1900"/>
            </a:b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Características física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Dimensiones: 373,5 x 447,5 x 241 mm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Peso: 4 kg.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Color: neg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6491160"/>
            <a:ext cx="36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PROYECTO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1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OPTOMA EX774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l Nuevo proyector de </a:t>
            </a: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4.300 lumene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es el proyector mas economico del mercado. A esta excelente luminosidad añada una gran definicion y tamaño y peso contenidos. Con </a:t>
            </a: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resolucion nativa XG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1.139,00 €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2219400" cy="13669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9000" y="6381720"/>
            <a:ext cx="233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PANTALLA DE TELEVI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2612880" cy="2613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94000" y="1827360"/>
            <a:ext cx="35910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Dimensiones 114,06 X 72,29 X 9,9 cm. (sin peana) </a:t>
            </a:r>
            <a:br>
              <a:rPr sz="1900"/>
            </a:b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• Peso 22 kg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La pantalla tiene 47 pulgadas y con altavoces invisib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1965240" cy="1965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44240" y="6491160"/>
            <a:ext cx="233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PANTALLA DEL PROYEC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94000" y="1827360"/>
            <a:ext cx="35910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Diffusion whi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1.960 € (195 x 146 c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Se caracteriza porque no se desplaza  y porque evita efectos ola y reflej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838600" cy="374508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DISCO DURO PORTAT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89200" cy="4116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94000" y="1827360"/>
            <a:ext cx="35910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340000" y="404640"/>
          <a:ext cx="7113600" cy="755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404640"/>
                    <a:ext cx="7113600" cy="75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3152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IMPRESORA LASER A4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94000" y="1827360"/>
            <a:ext cx="3591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elocidad de impresión: 14 ppm en blanco y negro (A4)¹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Método de impresión: Impresión monocroma mediante láser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Calidad de impresión: Hasta 2400 x 600 ppp con refinamiento automático de la image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Resolución de impresión: Hasta 600 x 600 ppp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Tiempo de salida de la primera página: Aprox. 8,5 segundos o meno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Rendimiento: Máx. 5.000 páginas al me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• Márgenes de impresión: superior, inferior, izquierda y derecha: 5 m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3589200" cy="35892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800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417240"/>
            <a:ext cx="73152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IMPRESORA A TINTA A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89200" cy="41162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910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Verdana"/>
              </a:rPr>
              <a:t>Impresora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: Canon Canon - imagePROGRAF iPF5100 (17)" Canon_ipf5100.pdf canon - imagePROGRAF iPF5100 (17) consiga unas extraordinarias impresiones en soportes A2 mediante el exclusivo sistema de 12 tintas pigmentadas de Canon. La impresora de gran formato .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2971800" cy="36766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649116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S INFOR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9-10-15T04:05:23Z</dcterms:created>
  <dc:creator>Usuario</dc:creator>
  <dc:description/>
  <dc:language>en-US</dc:language>
  <cp:lastModifiedBy>Usuario</cp:lastModifiedBy>
  <dcterms:modified xsi:type="dcterms:W3CDTF">2099-10-20T10:57:57Z</dcterms:modified>
  <cp:revision>4</cp:revision>
  <dc:subject/>
  <dc:title>Diapositiva 1</dc:title>
</cp:coreProperties>
</file>