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129-33E4-429C-9F02-5D39F7C3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BE7-C8F9-4C65-A00E-E01BB90C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693-7B9B-4F31-A6BF-831078E5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75A-08ED-4D9B-AA04-3C190C62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F77C-2496-4DCE-966B-1C0E6916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0909-1101-4145-AE0D-8E2FA99D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E201-D5CB-462B-9EAB-371BACE1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5DA1-4D3B-4B7F-A4F4-56ABF454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8FBC-8F10-4C6E-B7FE-BB335E91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EB50-316D-4EBF-9976-F356F09D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FC6D-3320-420D-ACFB-EBBB2D09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659-406C-4332-B7B8-C02D551B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6B66-6D60-4C2A-8460-66A30B0C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2676-2BD8-441E-B174-34707DC5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5007-81F2-437A-824F-F6EDA160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865E-8D75-4B3D-8898-74703D1D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497E-21B8-4DC5-9C4C-8ECE87B4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F16-DA80-4BB8-8369-6F8EB798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37F-BA15-433C-8232-FFE259EA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EAF5-1A7C-4811-91E7-D419E065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07D-55F8-4895-977D-C1A3A839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983-C1CE-4DFF-B091-0D3EF8D2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A42-2DC4-4E2F-B8D3-B1E22C2B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914-F8A4-4523-ACB8-44EDCE94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1" name="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BAE51A-8A17-412F-B336-7D123E1F5DFB}" type="slidenum">
              <a: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61" name="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DCB66-1D97-4639-9A41-F147C186A409}" type="slidenum">
              <a:rPr b="0" lang="es-ES_tradn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ara.es/hard/images/Diff-from-left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axvisual.es/epages/62028366.sf/es_ES/?ObjectPath=/Shops/62028366/Products/%22VIVITEK%20D832MX%22" TargetMode="External"/><Relationship Id="rId2" Type="http://schemas.openxmlformats.org/officeDocument/2006/relationships/hyperlink" Target="http://www.maxvisual.es/epages/62028366.sf/es_ES/?ObjectPath=/Shops/62028366/Products/%22ACER%20P5280%22" TargetMode="External"/><Relationship Id="rId3" Type="http://schemas.openxmlformats.org/officeDocument/2006/relationships/hyperlink" Target="http://www.maxvisual.es/epages/62028366.sf/es_ES/?ObjectPath=/Shops/62028366/Products/%22ACER%20P5280%22" TargetMode="External"/><Relationship Id="rId4" Type="http://schemas.openxmlformats.org/officeDocument/2006/relationships/hyperlink" Target="http://www.maxvisual.es/epages/62028366.sf/es_ES/?ObjectPath=/Shops/62028366/Products/%22PROYECTOR%20BENQ%20MP724%22" TargetMode="External"/><Relationship Id="rId5" Type="http://schemas.openxmlformats.org/officeDocument/2006/relationships/hyperlink" Target="http://www.maxvisual.es/epages/62028366.sf/es_ES/?ObjectPath=/Shops/62028366/Products/%22VIVITEK%20D832MX%22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www.maxvisual.es/epages/62028366.sf/es_ES/?ObjectPath=/Shops/62028366/Products/%22ACER%20P5280%22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www.maxvisual.es/epages/62028366.sf/es_ES/?ObjectPath=/Shops/62028366/Products/%22PROYECTOR%20BENQ%20MP724%22" TargetMode="External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axvisual.es/epages/62028366.sf/es_ES/?ObjectPath=/Shops/62028366/Products/%22PROYECTOR%20OPTOMA%20EX774%204300%20ANSI%2C%2010...%22" TargetMode="External"/><Relationship Id="rId2" Type="http://schemas.openxmlformats.org/officeDocument/2006/relationships/hyperlink" Target="http://www.maxvisual.es/epages/62028366.sf/es_ES/?ObjectPath=/Shops/62028366/Products/%22Optoma%20Ep763%22" TargetMode="External"/><Relationship Id="rId3" Type="http://schemas.openxmlformats.org/officeDocument/2006/relationships/hyperlink" Target="http://www.maxvisual.es/epages/62028366.sf/es_ES/?ObjectPath=/Shops/62028366/Products/%22Optoma%20Ep763%22" TargetMode="External"/><Relationship Id="rId4" Type="http://schemas.openxmlformats.org/officeDocument/2006/relationships/hyperlink" Target="http://www.maxvisual.es/epages/62028366.sf/es_ES/?ObjectPath=/Shops/62028366/Products/%22ACER%20P7270I%22" TargetMode="External"/><Relationship Id="rId5" Type="http://schemas.openxmlformats.org/officeDocument/2006/relationships/hyperlink" Target="http://www.maxvisual.es/epages/62028366.sf/es_ES/?ObjectPath=/Shops/62028366/Products/%22PROYECTOR%20OPTOMA%20EX774%204300%20ANSI%2C%2010...%22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www.maxvisual.es/epages/62028366.sf/es_ES/?ObjectPath=/Shops/62028366/Products/%22Optoma%20Ep763%22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www.maxvisual.es/epages/62028366.sf/es_ES/?ObjectPath=/Shops/62028366/Products/%22ACER%20P7270I%22" TargetMode="External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axvisual.es/epages/62028366.sf/es_ES/?ObjectPath=/Shops/62028366/Products/%22OPTOMA%20EP776%20WI-FI%204300%20LUMENS%20XGA%22" TargetMode="External"/><Relationship Id="rId2" Type="http://schemas.openxmlformats.org/officeDocument/2006/relationships/hyperlink" Target="http://www.maxvisual.es/epages/62028366.sf/es_ES/?ObjectPath=/Shops/62028366/Products/%22OPTOMA%20EP782%20WI-FI%204700%20LUMENS%20XGA%22" TargetMode="External"/><Relationship Id="rId3" Type="http://schemas.openxmlformats.org/officeDocument/2006/relationships/hyperlink" Target="http://www.maxvisual.es/epages/62028366.sf/es_ES/?ObjectPath=/Shops/62028366/Products/%22OPTOMA%20EP782%20WI-FI%204700%20LUMENS%20XGA%22" TargetMode="External"/><Relationship Id="rId4" Type="http://schemas.openxmlformats.org/officeDocument/2006/relationships/hyperlink" Target="http://www.maxvisual.es/epages/62028366.sf/es_ES/?ObjectPath=/Shops/62028366/Products/%22OPTOMA%20EP782%20WI-FI%204700%20LUMENS%20XGA%22" TargetMode="External"/><Relationship Id="rId5" Type="http://schemas.openxmlformats.org/officeDocument/2006/relationships/hyperlink" Target="http://www.maxvisual.es/epages/62028366.sf/es_ES/?ObjectPath=/Shops/62028366/Products/%22OPTOMA%20EP776%20WI-FI%204300%20LUMENS%20XGA%22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www.maxvisual.es/epages/62028366.sf/es_ES/?ObjectPath=/Shops/62028366/Products/%22OPTOMA%20EP782%20WI-FI%204700%20LUMENS%20XGA%22" TargetMode="External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ara.es/hard/images/panttripode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dara.es/hard/images/Connect-Tripod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dara.es/hard/images/New%20Frame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ara.es/hard/images/Spring%20Roll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dara.es/hard/images/ProScreen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hyperlink" Target="http://www.dara.es/hard/images/Connect.jpg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dara.es/hard/images/D3_white_video.jpg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dara.es/hard/images/one1.jpg" TargetMode="External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ara.es/hard/images/ConfortScreen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dara.es/hard/images/newslim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dara.es/hard/images/Connect_detail.jp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dara.es/hard/images/D3_white_detail.jpg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www.dara.es/hard/images/elite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ara.es/hard/images/elite%20tensionada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dara.es/hard/images/Plus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dara.es/hard/images/Othelo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dara.es/hard/images/JUMBO.jpg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5400" spc="-1" strike="noStrike">
                <a:solidFill>
                  <a:srgbClr val="ff9900"/>
                </a:solidFill>
                <a:latin typeface="Arial"/>
              </a:rPr>
              <a:t>ASESORAMIENT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adrid – Sur HighTech S.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3573360"/>
            <a:ext cx="2487600" cy="328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0" y="0"/>
          <a:ext cx="9145440" cy="6742080"/>
        </p:xfrm>
        <a:graphic>
          <a:graphicData uri="http://schemas.openxmlformats.org/drawingml/2006/table">
            <a:tbl>
              <a:tblPr/>
              <a:tblGrid>
                <a:gridCol w="4572000"/>
                <a:gridCol w="4573440"/>
              </a:tblGrid>
              <a:tr h="6742080">
                <a:tc>
                  <a:txBody>
                    <a:bodyPr lIns="90000" rIns="90000" tIns="1152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. Diffusion Contr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780 € (100 x 56 cm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3.260€ (300 x 169 c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52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. Diffusion wh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890 € ( 100 x 75 cm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1.960 € (195 x 146 c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5400" spc="-1" strike="noStrike">
                <a:solidFill>
                  <a:srgbClr val="ff9900"/>
                </a:solidFill>
                <a:latin typeface="Arial"/>
              </a:rPr>
              <a:t>ORDENADORES</a:t>
            </a:r>
            <a:br>
              <a:rPr sz="5400"/>
            </a:br>
            <a:r>
              <a:rPr b="1" lang="es-ES_tradnl" sz="5400" spc="-1" strike="noStrike">
                <a:solidFill>
                  <a:srgbClr val="ff9900"/>
                </a:solidFill>
                <a:latin typeface="Arial"/>
              </a:rPr>
              <a:t>PORTATIL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84360" y="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4800" spc="-1" strike="noStrike">
                <a:solidFill>
                  <a:srgbClr val="ff9900"/>
                </a:solidFill>
                <a:latin typeface="Arial"/>
              </a:rPr>
              <a:t>PORTAT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7280" y="836640"/>
            <a:ext cx="885672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buClr>
                <a:srgbClr val="ff99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NET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· A favor: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 peso es 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Arial"/>
              </a:rPr>
              <a:t>reducido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Arial"/>
              </a:rPr>
              <a:t>mas barat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que los Pc portátiles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yor 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Arial"/>
              </a:rPr>
              <a:t>movilidad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· En contra:</a:t>
            </a:r>
            <a:br>
              <a:rPr sz="1800"/>
            </a:b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Arial"/>
              </a:rPr>
              <a:t>Menos capacidad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e procesador</a:t>
            </a:r>
            <a:br>
              <a:rPr sz="1800"/>
            </a:b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Arial"/>
              </a:rPr>
              <a:t>Actividades limitada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500"/>
              </a:spcBef>
              <a:buClr>
                <a:srgbClr val="ff99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PC PORTA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· A favor: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rmite una variedad 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Arial"/>
              </a:rPr>
              <a:t>mas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mplia de 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Arial"/>
              </a:rPr>
              <a:t>aplicaciones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s 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Arial"/>
              </a:rPr>
              <a:t>memoria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· En contra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 mas 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Arial"/>
              </a:rPr>
              <a:t>tosc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a la hora de moverlo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5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2. PC PORTAT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s características que debemos estudiar antes de comprar un ordenador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ben ser: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1. Disco Duro </a:t>
            </a:r>
            <a:r>
              <a:rPr b="1" lang="es-ES_tradnl" sz="1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En el caso de los ordenadores portatiles, siempre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se puede añadir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La capacidad del disco duro puede ir desde lo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0Gb hasta los 999 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0Gb – 299 Gb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Desde 387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€ hasta 575, 50€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300Gb – 499 Gb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esde 775 € hasta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1.134 €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500Gb – 999 Gb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esde       hasta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2. Procesador</a:t>
            </a:r>
            <a:r>
              <a:rPr b="0" lang="es-ES_tradnl" sz="1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etermina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la calidad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el portatil.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gún el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tip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puede ser: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MD ATHLON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torno a los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400 €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TEL ATOM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torno a los 600 €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TEL CORE 2DU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esde 700 €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hasta 1200 €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gún su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frecuenci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puede ser: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 1,5 y 2, 0 GHz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Desde 387 €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hasta 775 €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ferior a 1, 5 GHz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Entre 700 €  y 800 €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uperior a 2,0 GHz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Mas de 1200 €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3. Memoria</a:t>
            </a:r>
            <a:r>
              <a:rPr b="0" lang="es-ES_tradnl" sz="1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Segun la memoria se puede clasific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1 a 2 Gb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torno a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575.5€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s de 3 Gb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Entre 387 € y 800 €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tre 2 Gb y 3 Gb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Mas de 1200 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4. Tamaño </a:t>
            </a:r>
            <a:r>
              <a:rPr b="1" lang="es-ES_tradnl" sz="1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 la hora de escoger un ordenador portatil, tambien e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importante el tamaño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Se clasific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s de 15.4 pulgadas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Desde 387 €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hasta 775€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nos de 14 kg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Entre 500 €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a 1200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</a:rPr>
              <a:t> 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5. Peso</a:t>
            </a:r>
            <a:r>
              <a:rPr b="1" lang="es-ES_tradnl" sz="1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,5 kg hasta 2,5 kg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Mas de 1200 €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,5 kg hasta 3,5 kg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Entre 350 € y 700 €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s de 3,5 kg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Entorno a 700 €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enos de 1,5 kg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esde 600 €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hasta 800 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400" spc="-1" strike="noStrike">
                <a:solidFill>
                  <a:srgbClr val="ff9966"/>
                </a:solidFill>
                <a:latin typeface="Arial"/>
              </a:rPr>
              <a:t>CAÑONES</a:t>
            </a:r>
            <a:br>
              <a:rPr sz="4400"/>
            </a:br>
            <a:r>
              <a:rPr b="1" lang="es-ES" sz="4400" spc="-1" strike="noStrike">
                <a:solidFill>
                  <a:srgbClr val="ff9966"/>
                </a:solidFill>
                <a:latin typeface="Arial"/>
              </a:rPr>
              <a:t> PROYECTOR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-57240" y="0"/>
            <a:ext cx="9201240" cy="62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ff9966"/>
                </a:solidFill>
                <a:latin typeface="Arial"/>
              </a:rPr>
              <a:t>CAÑONES PROYECTO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pueden clasificar segú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66"/>
                </a:solidFill>
                <a:latin typeface="Arial"/>
              </a:rPr>
              <a:t>1. LUMENES</a:t>
            </a:r>
            <a:br>
              <a:rPr sz="24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· 3500 LUMENES (Mínimo recomendable)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Mas de 3500 LUMENE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depende de: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) La distancia 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La luminos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66"/>
                </a:solidFill>
                <a:latin typeface="Arial"/>
              </a:rPr>
              <a:t>2. RESOLUCION</a:t>
            </a:r>
            <a:br>
              <a:rPr sz="24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· SVGA (800 x 600) </a:t>
            </a:r>
            <a:r>
              <a:rPr b="0" lang="es-E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No recomendabl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XGA (1024 X 768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Mínimo exig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66"/>
                </a:solidFill>
                <a:latin typeface="Arial"/>
              </a:rPr>
              <a:t>3. WIF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66"/>
                </a:solidFill>
                <a:latin typeface="Arial"/>
              </a:rPr>
              <a:t>4. P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63640" y="3933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7640" y="407664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mayor resolució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· Mayor claridad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· Es necesaria una pantalla mas gra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414972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39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45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5084640"/>
            <a:ext cx="576360" cy="1440000"/>
          </a:xfrm>
          <a:custGeom>
            <a:avLst/>
            <a:gdLst>
              <a:gd name="textAreaLeft" fmla="*/ 0 w 576360"/>
              <a:gd name="textAreaRight" fmla="*/ 208080 w 576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9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as condiciones </a:t>
            </a: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no son necesa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400" spc="-1" strike="noStrike">
                <a:solidFill>
                  <a:srgbClr val="ff9966"/>
                </a:solidFill>
                <a:latin typeface="Arial"/>
              </a:rPr>
              <a:t>RECOMENDACIO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413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 u="sng">
                <a:solidFill>
                  <a:srgbClr val="ff9966"/>
                </a:solidFill>
                <a:uFillTx/>
                <a:latin typeface="Arial"/>
              </a:rPr>
              <a:t>CON MAS DE 3500 LUM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9640" y="1989000"/>
          <a:ext cx="8156520" cy="4138920"/>
        </p:xfrm>
        <a:graphic>
          <a:graphicData uri="http://schemas.openxmlformats.org/drawingml/2006/table">
            <a:tbl>
              <a:tblPr/>
              <a:tblGrid>
                <a:gridCol w="2671920"/>
                <a:gridCol w="2728800"/>
                <a:gridCol w="2755800"/>
              </a:tblGrid>
              <a:tr h="41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/>
                        </a:rPr>
                        <a:t>VIVITEK D832MX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49,99 €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resolución XGA.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rece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3200 lúme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un peso de 2.6 kg. Este proyector es adecuado para infinidad de escenarios, desde oficinas. Su lámpara dura hasta 4000 horas en modo e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Acer</a:t>
                      </a:r>
                      <a:r>
                        <a:rPr b="0" lang="es-E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 P5280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54,99 €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El P5280 con un espléndido brillo en la proyección, alto ratio de contraste y bajo consumo, es el óptimo proyector para cada situación. Proyecte increibles imágenes gracias a sus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3500 Lumen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e brillo y una resolución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ativa XGA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BENQ MP72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89,99 €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 Pensado para medianas y grandes salas de reuniones. Su brillo de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3500 lúmenes,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Resolución XG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ara obtener imágenes vibrantes con gran precisión de color y detall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VIVITEK D832MX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5386320"/>
            <a:ext cx="2016360" cy="1471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Acer P528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0000" y="6054840"/>
            <a:ext cx="1295280" cy="803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PROYECTOR BENQ MP724 XGA de 3500 lumen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32720" y="5589720"/>
            <a:ext cx="187308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101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 u="sng">
                <a:solidFill>
                  <a:srgbClr val="ff9966"/>
                </a:solidFill>
                <a:uFillTx/>
                <a:latin typeface="Arial"/>
              </a:rPr>
              <a:t>CON MAS DE 3500 LUM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549360"/>
          <a:ext cx="9144000" cy="59626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9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"/>
                        </a:rPr>
                        <a:t>OPTOMA EX774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.139,00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uevo proyector de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.300 lume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s el proyector mas economico del mercado. A esta excelente luminosidad añada una gran definicion y tamaño y peso contenidos. Con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olucion nativa X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Optoma</a:t>
                      </a:r>
                      <a:r>
                        <a:rPr b="0" lang="es-E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/>
                        </a:rPr>
                        <a:t> EP763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.169,99 €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llo de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500 Lúme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olución Nativa XG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otección con Contraseña para una mayor Segur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/>
                        </a:rPr>
                        <a:t>ACER P7270I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.299,99 €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proyector es ideal para grandes auditorios con tecnología inalámbrica. Con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.000 Lumen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olución nativa XG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 un ratio de contraste 2300:1, este potente proyector presenta imágenes brillantes incluso en los grandes escenarios con una amplia luz ambiental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" descr="PROYECTOR OPTOMA EX774N 4.300 ANSI, XG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4365720"/>
            <a:ext cx="2232000" cy="1374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Proyector Optoma EP76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48000" y="4292640"/>
            <a:ext cx="2781360" cy="1668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ACER P7270I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88000" y="4697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 u="sng">
                <a:solidFill>
                  <a:srgbClr val="ff9966"/>
                </a:solidFill>
                <a:uFillTx/>
                <a:latin typeface="Arial"/>
              </a:rPr>
              <a:t>CON MAS DE 3500 LUM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549360"/>
          <a:ext cx="9144000" cy="6308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63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"/>
                        </a:rPr>
                        <a:t>OPTOMA EP7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.849,99 €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proyector con sus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300 lumen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uestra unas imagenes hiper brillantes. Su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olución nativa XG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rece ademas una calidad y definición completamente sobresalient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OPTOMA EP782 + </a:t>
                      </a:r>
                      <a:r>
                        <a:rPr b="0" lang="es-E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/>
                        </a:rPr>
                        <a:t>lampara</a:t>
                      </a:r>
                      <a:r>
                        <a:rPr b="0" lang="es-E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/>
                        </a:rPr>
                        <a:t> de regalo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.049,99 € 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oma nos brinda un deslumbrante proyector  con sus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300 lumen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e muestra unas imagenes hiper brillantes. Su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olución nativa X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Q SP87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.399,99 €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ideal para salas de reuniones, con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000 lúme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e le permite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ener las luces encendida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urante su utilización en caso de que se necesite consultar documentos o tomar apun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Q SP9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.599,99 €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proyector BenQ </a:t>
                      </a:r>
                      <a:r>
                        <a:rPr b="1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 6.000 lúme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podrá disfrutar la mejor proyección al mismo tiempo que se beneficia de una mayor conservación de la energía.El proyector SP920 tiene </a:t>
                      </a:r>
                      <a:r>
                        <a:rPr b="0" lang="es-E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res modos de proyección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" descr="OPTOMA EP776 WI-FI 4300 LUMENS XG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5084640"/>
            <a:ext cx="1908000" cy="1087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OPTOMA EP782 WI-FI 4700 LUMENS XGA + lampara de rega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56000" y="5084640"/>
            <a:ext cx="1871640" cy="1067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BenQ SP870"/>
          <p:cNvPicPr/>
          <p:nvPr/>
        </p:nvPicPr>
        <p:blipFill>
          <a:blip r:embed="rId9"/>
          <a:stretch/>
        </p:blipFill>
        <p:spPr>
          <a:xfrm>
            <a:off x="4932360" y="5373720"/>
            <a:ext cx="1584360" cy="1219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BenQ SP920"/>
          <p:cNvPicPr/>
          <p:nvPr/>
        </p:nvPicPr>
        <p:blipFill>
          <a:blip r:embed="rId10"/>
          <a:stretch/>
        </p:blipFill>
        <p:spPr>
          <a:xfrm>
            <a:off x="7308720" y="5300640"/>
            <a:ext cx="18352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5400" spc="-1" strike="noStrike">
                <a:solidFill>
                  <a:srgbClr val="ff9900"/>
                </a:solidFill>
                <a:latin typeface="Arial"/>
              </a:rPr>
              <a:t>PANTALL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2133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6600"/>
                </a:solidFill>
                <a:latin typeface="Arial"/>
              </a:rPr>
              <a:t>TIPOS DE SA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STEMA DE ALIMENTACION ININTERRUMP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2987640" cy="225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0" y="4437000"/>
          <a:ext cx="9144000" cy="24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37000"/>
                    <a:ext cx="914400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203640" y="2602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6600"/>
                </a:solidFill>
                <a:latin typeface="Times New Roman"/>
              </a:rPr>
              <a:t>PW 912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105264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UPS ON-LINE de Doble Conversión con Separación Galvánica entre la Entrada y la Salida. Los 9120 incorporan de serie:   BY-PASS estático en toda su gama.  Display LCD de señalización Digital para determinar el estado de la Red y del SAI de manera fácil, fiable y rápid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285264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uevo Corrector del Factor de Potencia de Entrada, para la mejora de Armónicos sobre la Red.    Equipos ideales para Expendedores de Gasolina, Grandes Almacenes y Supermercados, Protección de Material Quirúrgico, Telecomunicaciones, Protección de TPV’s y Balanzas Electrónicas, Potentes estaciones de trabajo, Procesos de control, y muy especialmente para equipos que tengan que trabajar con Grupos Gener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6600"/>
                </a:solidFill>
                <a:latin typeface="Times New Roman"/>
              </a:rPr>
              <a:t>NS 9110</a:t>
            </a: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355608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0" y="4508640"/>
          <a:ext cx="914400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08640"/>
                    <a:ext cx="91440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3635280" y="1125360"/>
            <a:ext cx="5219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9110 como su antecesor el modelo 610 y Titán está controlado por Microprocesador para garantizar una alta fiabi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rgador y sistema de recarga de las baterías por Microprocesador para un funcionamiento y recarga más rápido y fi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068640"/>
            <a:ext cx="882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sponible también con largas autonomías y cargadores adicionales para más rapidez de carga.    Arranque en Frío.  Amplio margen de entrada de 110 a 300 Voltios.   Incluyen By-Pass estático y también de Mantenimiento en gama alta.   Versiones en Rack    Preparados para grupos Generadore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47640" y="0"/>
            <a:ext cx="57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_tradnl" sz="4800" spc="-1" strike="noStrike">
                <a:solidFill>
                  <a:srgbClr val="ff9900"/>
                </a:solidFill>
                <a:latin typeface="Arial"/>
              </a:rPr>
              <a:t>PANTALL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43700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197000"/>
            <a:ext cx="770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buClr>
                <a:srgbClr val="ff99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Se va a desplaza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500"/>
              </a:spcBef>
              <a:buClr>
                <a:srgbClr val="ff99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No se va a desplaz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1989000"/>
            <a:ext cx="792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1. 1Tripo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Presen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1. 2 Marc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Presentaciones y p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44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2. 1 M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Cine en c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2. 2 Eléctric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Comoda y eleg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2. 3 Eléctrica tensionad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Evita efectos ola y reflej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35200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buClr>
                <a:srgbClr val="ff99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1 TRIPODE</a:t>
            </a:r>
            <a:br>
              <a:rPr sz="24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on útiles para presentaciones en diferentes lug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 precio depende de la calidad y de la dimensión de la pantalla, por ejempl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1. Pantalla Alkorfi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imensiones: 150 x 150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so: 5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ecio: 80 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2. Pantalla Euroscreen 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imensiones: 240 x 180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so: 13.8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ecio: 500 €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1268280"/>
            <a:ext cx="1200240" cy="1873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357720"/>
            <a:ext cx="1212840" cy="1798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5254560"/>
            <a:ext cx="583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recio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este tipo de pantalla, como se puede ver, es muy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variabl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pendiendo de las características del material de la panta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buClr>
                <a:srgbClr val="ff99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2 MAR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 suelen utilizar para present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 preci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epende de las 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dimension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e la pantalla. En este caso los precios son mas elevados pero es rentable dadas las dimensiones y el material de la panta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os oscilan ent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.  180 € por una pantalla de 98” y de 200 x 150 c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.  6.440€ por una pantalla de 1000 x 75 cm,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3.  Pasando por los 3.720 € y 394 “ ó 4.320 € por 443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1728720" cy="1454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727280" cy="1355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5013360"/>
            <a:ext cx="2050920" cy="12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0"/>
          <a:ext cx="9145440" cy="6348240"/>
        </p:xfrm>
        <a:graphic>
          <a:graphicData uri="http://schemas.openxmlformats.org/drawingml/2006/table">
            <a:tbl>
              <a:tblPr/>
              <a:tblGrid>
                <a:gridCol w="3276720"/>
                <a:gridCol w="2820960"/>
                <a:gridCol w="3047760"/>
              </a:tblGrid>
              <a:tr h="314172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ring Roll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talla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dradas blancas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s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80 € (153 x 153 cm)</a:t>
                      </a:r>
                      <a:br>
                        <a:rPr sz="1600"/>
                      </a:b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195 € (240 x 200 cm)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roscreen</a:t>
                      </a:r>
                      <a:r>
                        <a:rPr b="1" lang="es-ES_tradnl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talla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dradas vide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panorámicas. </a:t>
                      </a:r>
                      <a:br>
                        <a:rPr sz="1600"/>
                      </a:b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s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90 € (157 x 171 cm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250 € (151 x 129 cm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lkorfix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ntallas cuadrad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ncas. Económ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s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130€ (150 x 150 cm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240 € (240 x 180 cm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652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uroscreen</a:t>
                      </a:r>
                      <a:r>
                        <a:rPr b="1" lang="es-ES_tradnl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tallas cuadradas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y panorámicas</a:t>
                      </a:r>
                      <a:br>
                        <a:rPr sz="1600"/>
                      </a:b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105 € (150 x 150 cm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260 € (240 x 180 c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iplomat: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talla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dradas, video 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orámicas.</a:t>
                      </a:r>
                      <a:br>
                        <a:rPr sz="1600"/>
                      </a:b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130 € (150 x 150 cm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560 € (300 x 300 cm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One.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tallas cuadradas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y panorámicas de alt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a. Disponible también en: </a:t>
                      </a:r>
                      <a:br>
                        <a:rPr sz="1600"/>
                      </a:b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180 € ( 160 x 160 c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470 € (240 x 180 c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916280"/>
            <a:ext cx="1285920" cy="1388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1989000"/>
            <a:ext cx="1511280" cy="1390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04000" y="191628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187280" y="5576760"/>
            <a:ext cx="1440000" cy="1281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4720" y="5589720"/>
            <a:ext cx="1112760" cy="1268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164360" y="5843520"/>
            <a:ext cx="1079640" cy="1014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0"/>
            <a:ext cx="90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9966"/>
                </a:solidFill>
                <a:latin typeface="Arial"/>
              </a:rPr>
              <a:t>2.1 MAN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8821800" cy="6858000"/>
        </p:xfrm>
        <a:graphic>
          <a:graphicData uri="http://schemas.openxmlformats.org/drawingml/2006/table">
            <a:tbl>
              <a:tblPr/>
              <a:tblGrid>
                <a:gridCol w="2940120"/>
                <a:gridCol w="2941560"/>
                <a:gridCol w="2940120"/>
              </a:tblGrid>
              <a:tr h="34290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fort Scree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rodesion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180 € hasta 320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ew Slim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ultius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530 € hasta 1080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lkorfix </a:t>
                      </a:r>
                      <a:br>
                        <a:rPr sz="1800"/>
                      </a:b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350 €  hasta 680 €</a:t>
                      </a: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355 € hasta 465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iplomat </a:t>
                      </a:r>
                      <a:br>
                        <a:rPr sz="1800"/>
                      </a:b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de 535 €  hasta 775 €</a:t>
                      </a: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Élite Altas Prestacione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650 € hasta 1380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73360"/>
            <a:ext cx="1944360" cy="1828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268280"/>
            <a:ext cx="1851120" cy="1925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4797360"/>
            <a:ext cx="1871640" cy="1254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92360" y="4797360"/>
            <a:ext cx="1944720" cy="1225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59640" y="4869000"/>
            <a:ext cx="1511280" cy="1209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160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9966"/>
                </a:solidFill>
                <a:latin typeface="Arial"/>
              </a:rPr>
              <a:t>2.2 ELEC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0" y="0"/>
          <a:ext cx="914544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9560"/>
                <a:gridCol w="3047760"/>
              </a:tblGrid>
              <a:tr h="34290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Élite Tensionad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otalmente plan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1.280  hasta 1610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lus Oculta en tech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1.070 € hasta 1490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udio Grey Alt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trast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780 € hasta 960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Othelo Máxima c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945 € hasta 1270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Othelo Tension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áxima cal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1.340 € hasta 1880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umbo Grandes aforo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1.820 € hasta 12150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413000"/>
            <a:ext cx="2232000" cy="162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4365720"/>
            <a:ext cx="1708200" cy="2117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4653000"/>
            <a:ext cx="230328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-1440" y="0"/>
          <a:ext cx="9145440" cy="6885000"/>
        </p:xfrm>
        <a:graphic>
          <a:graphicData uri="http://schemas.openxmlformats.org/drawingml/2006/table">
            <a:tbl>
              <a:tblPr/>
              <a:tblGrid>
                <a:gridCol w="3348000"/>
                <a:gridCol w="2736720"/>
                <a:gridCol w="3060720"/>
              </a:tblGrid>
              <a:tr h="6885000">
                <a:tc>
                  <a:txBody>
                    <a:bodyPr lIns="90000" rIns="90000" tIns="11520" bIns="46800" anchor="ctr">
                      <a:noAutofit/>
                    </a:bodyPr>
                    <a:p>
                      <a:pPr marL="531720" indent="-531720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. Medio contra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ganancia de 4: 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680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 x 56 cm / 50”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2.415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00 x 169 / 142”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1720" indent="-531720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52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. Holoscreen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1.055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 x 56 cm / 50”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2.970 €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00 x 200 cm / 142”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52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. Fo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e 505 €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00 x 75 cm / 50 “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680 €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64 x 122 cm / 80 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132000" y="4508640"/>
            <a:ext cx="2843280" cy="2082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2.3 ELECTRICAS TENS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6:48:22Z</dcterms:created>
  <dc:creator>Anais</dc:creator>
  <dc:description/>
  <dc:language>en-US</dc:language>
  <cp:lastModifiedBy>Usuario</cp:lastModifiedBy>
  <dcterms:modified xsi:type="dcterms:W3CDTF">2099-09-28T01:51:35Z</dcterms:modified>
  <cp:revision>7</cp:revision>
  <dc:subject/>
  <dc:title>Diapositiva 1</dc:title>
</cp:coreProperties>
</file>